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64C0-582E-460E-B176-C963C0042B0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0CBB-4C68-4929-A52A-9B651EF87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B413-20D2-4521-B001-29785F2FB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8C12-5019-4022-ADE1-3050AB028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8E2-4B26-4F52-B45A-C1C8DD7DE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C263-D9B2-48FA-867D-2A1945F9E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413-2D80-4B38-8D1A-C03297CC8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el apartado 6.4 de UNDP-UNEP (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F4E-D303-4A08-A4D8-D12DB18C9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escala nacional, una estructura de coordinación de cambio climático formal o informal y a alto nivel puede apoyar la respuesta global, aunque debería actuar como catalizador en lugar de como sustituto de la acción de otros organismos gubern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o central con poder de coordinación y de toma de decisiones sobre los ministerios competentes, en particular con respecto a la adjudicación presupuestar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.ej., el gabinete del Presidente o Primer Ministro, el Ministerio de Finanzas, el Ministerio de Planificación o algún organismo equival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BF36-1026-418D-B4F1-7D5D829EB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8BAB-AAD5-4E14-BE59-1CCAE03C2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845E-CDC4-4C4E-9C6B-8A65374F7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0E7-7E5F-4348-BAA0-840BBA891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B1B0-A8AA-4F91-8BEB-B93E0CF54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1B1-116A-4320-9247-CCDCB3580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8EF-98A1-448A-B9FF-00FE716CB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FFD-3AA0-4F8D-82A9-4372758B8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12D-8854-4A94-8293-101E7A8F1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P (2011: 72) Una iniciativa de Autoevaluación Nacional de la Capacidad (ANC) es 'un proces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nac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nsulti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daptado a nivel lo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que tiene el objetivo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revisar las cuestiones globales relativas al medio ambiente que exigen una atención prior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determinar la forma en que el desarrollo de capacidades podría reforzar la gestión de estas cues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eparar un plan de acción nacional para el desarrollo de capacidad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UNDP-UNEP (2010)  pp. 32-35 para obtener información sobre las autoevaluaciones nacionales de capacidad y las 'evaluaciones de capacidades y vulnerabilidad'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F39-769C-40A8-A9FE-B94392D6A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663-1906-410A-B0CB-71B34FE5E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r UNDP-UNEP (2009), página 7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E8C7-F3B0-4637-9376-CA6CAB13A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698-DB1E-42D6-A600-B74A7D205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 el Módulo 2 se han abordado los vínculos existentes entre el rendimiento sectorial y el medio amb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rendimiento del secto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oambient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uele contar con una financiación insuficiente: por ejemplo, en Lesoto (2012), el Departamento de Medio Ambiente depende del Ministerio de Turismo y Medio Ambiente. El Ministerio recibe en su totalidad alrededor de un 0,16% del presupuesto asignado a los ministerios competentes, del cual, tan solo una pequeña parte se destina al Departamento de Medio Ambiente, ya que las principales tareas del Ministerio se orientan a la promoción del tur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 frecuencia, lo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en el sector medioambiental no se llevan a cabo debido a la falta de financiación. Si el resto de sectores no asumen la responsabilidad de su dimensión medioambiental, las opciones para abordarla quedan considerablemente limit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8726-F750-4DEE-AF44-90556E89C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84C-0F69-4526-8043-D471C5018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lal-Clayton &amp; Bass 2009: Resultados de la inte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Participación y proceso democr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políticos y relativos a las 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plan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relativos a las instituciones y las capac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de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Resultados en materia de condu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Impacto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A37D-C261-416B-892F-1D949E9E3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F84E-048A-4352-BC3D-607C7816C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D9A9-42DA-48A8-8AB1-89F88B744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F0C-7AAC-4216-B29F-295A259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AD8-5EC2-4D72-8D0F-F092F39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94E-A17E-4B37-95ED-89D01834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27A-47F2-419A-83EA-78CFC08B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7150-AF54-4A72-8981-A5593C6F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DBC9-04F1-4FD7-8CCB-C58F4E39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5C2F-EB0C-411A-8C19-F0FDB759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74D2-9E70-4793-8BC5-BD396D1B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A8C-75C4-4BE3-B27D-3E19F6F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501E-55AD-425A-B9A9-618FBF39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26DF-FC08-47BF-8C00-767DF139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D02-C970-498E-B167-46494F80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2BAA-13CE-4AB7-9339-ACA19EEB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080A-4648-4271-8569-9C16C6B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EFB-7D6D-41AB-95DC-8BAF4273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72FB-1D52-46A7-9C1F-E5BB59EC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FCF-0E3E-4D74-B254-272377D0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9BB-F16A-4047-8595-DD9D1A0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AD9-6D35-454E-AF01-771A305D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963-8C93-4064-8BE5-CC38608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E7E-E0F9-47C9-A4B0-0BE47636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4B2-8B29-4D12-9AB0-16A36B4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F83-DCF4-40CD-AF21-CD01398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6D5-D1C8-4923-BB23-A8850108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F0F-850A-44CA-8FA2-19E194B038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4FD4-0120-4CC0-B9E6-FC59636624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ndp.org/mainstream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vironmental-mainstreaming.org/key-lit.html" TargetMode="External"/><Relationship Id="rId2" Type="http://schemas.openxmlformats.org/officeDocument/2006/relationships/hyperlink" Target="http://www.undp.org/climatechange/docs/English/UNDP_Adaptation_final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924280"/>
            <a:ext cx="8640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ódulo 2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egración y consolidación de instituciones y capacidad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532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Fortalecimiento de instituciones y capacidad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D994-349C-4476-A267-DE7B81435B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quisitos clave institucionales para una integración efectiv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3419640" y="3243240"/>
            <a:ext cx="2304720" cy="672840"/>
          </a:xfrm>
          <a:prstGeom prst="rect">
            <a:avLst/>
          </a:prstGeom>
          <a:solidFill>
            <a:srgbClr val="92d050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Integración efectiva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ounded Rectangular Callout 5"/>
          <p:cNvSpPr/>
          <p:nvPr/>
        </p:nvSpPr>
        <p:spPr>
          <a:xfrm>
            <a:off x="334800" y="1535040"/>
            <a:ext cx="1981440" cy="1371600"/>
          </a:xfrm>
          <a:prstGeom prst="wedgeRoundRectCallout">
            <a:avLst>
              <a:gd name="adj1" fmla="val 115361"/>
              <a:gd name="adj2" fmla="val 70152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oordinación y cooperación intersectorial y transvers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ounded Rectangular Callout 6"/>
          <p:cNvSpPr/>
          <p:nvPr/>
        </p:nvSpPr>
        <p:spPr>
          <a:xfrm>
            <a:off x="3306600" y="1306440"/>
            <a:ext cx="1905120" cy="1067040"/>
          </a:xfrm>
          <a:prstGeom prst="wedgeRoundRectCallout">
            <a:avLst>
              <a:gd name="adj1" fmla="val 21203"/>
              <a:gd name="adj2" fmla="val 118236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romotores influyentes nivel nacion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Rounded Rectangular Callout 7"/>
          <p:cNvSpPr/>
          <p:nvPr/>
        </p:nvSpPr>
        <p:spPr>
          <a:xfrm>
            <a:off x="6659640" y="1916280"/>
            <a:ext cx="1981080" cy="2304720"/>
          </a:xfrm>
          <a:prstGeom prst="wedgeRoundRectCallout">
            <a:avLst>
              <a:gd name="adj1" fmla="val -98763"/>
              <a:gd name="adj2" fmla="val 18055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ntegración de una nueva línea de pensamiento, nueva vía de investigación en procesos y sistemas de planificación y monitore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ed Rectangular Callout 8"/>
          <p:cNvSpPr/>
          <p:nvPr/>
        </p:nvSpPr>
        <p:spPr>
          <a:xfrm>
            <a:off x="487440" y="3821040"/>
            <a:ext cx="1981080" cy="152424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Intercambio de experiencias, difusión de buenas práctic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ed Rectangular Callout 9"/>
          <p:cNvSpPr/>
          <p:nvPr/>
        </p:nvSpPr>
        <p:spPr>
          <a:xfrm>
            <a:off x="3002040" y="4888080"/>
            <a:ext cx="2057400" cy="1371600"/>
          </a:xfrm>
          <a:prstGeom prst="wedgeRoundRectCallout">
            <a:avLst>
              <a:gd name="adj1" fmla="val 18453"/>
              <a:gd name="adj2" fmla="val -129851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Participación de los actores a diferentes escal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Rounded Rectangular Callout 10"/>
          <p:cNvSpPr/>
          <p:nvPr/>
        </p:nvSpPr>
        <p:spPr>
          <a:xfrm>
            <a:off x="5973840" y="4811760"/>
            <a:ext cx="2057400" cy="1371600"/>
          </a:xfrm>
          <a:prstGeom prst="wedgeRoundRectCallout">
            <a:avLst>
              <a:gd name="adj1" fmla="val -85004"/>
              <a:gd name="adj2" fmla="val -120013"/>
              <a:gd name="adj3" fmla="val 16667"/>
            </a:avLst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Refuerzo de las capacidades de los actores a diferentes escal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ular Callout 11"/>
          <p:cNvSpPr/>
          <p:nvPr/>
        </p:nvSpPr>
        <p:spPr>
          <a:xfrm>
            <a:off x="5334120" y="1066680"/>
            <a:ext cx="3341520" cy="914400"/>
          </a:xfrm>
          <a:prstGeom prst="wedgeRectCallout">
            <a:avLst>
              <a:gd name="adj1" fmla="val -63527"/>
              <a:gd name="adj2" fmla="val 11472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Verdana"/>
              </a:rPr>
              <a:t>P.ej., gabinete del primer ministro, ministerios de finanzas/presupuesto/planificac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185-0124-4FA1-9131-FF4FE7622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nciones de los principales actor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995400"/>
          <a:ext cx="8750160" cy="5529240"/>
        </p:xfrm>
        <a:graphic>
          <a:graphicData uri="http://schemas.openxmlformats.org/drawingml/2006/table">
            <a:tbl>
              <a:tblPr/>
              <a:tblGrid>
                <a:gridCol w="3168720"/>
                <a:gridCol w="55814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de act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ncipales funciones y responsabil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 central (incl. el gabinete del primer ministro, ministerios competentes, autoridades de RRD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derazgo, marcos de gestión del desempeñ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, normativas y legisl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dicación de recursos presupuestari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entación y desarrollo de capac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lament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bildeo (esp. con elaboración de presupuestos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icina Nacional de Estadístic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o y supervisión de indicad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ción de políticas 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con las estrategia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ivad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veer pérdidas/oportunidades, gestión riesgo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ción en inversiones sostenibles y reducción de la vulnerabilidad a través del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científicas y académic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igación orientada hacia las política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oyo en la toma de decision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smos de promoción de la invers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rsiones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pias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inversiones "a prueba del clima", cierre de las brechas de desarroll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de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mar en cuenta el medio ambiente y c.c.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E67-F607-4543-9C57-A9C6C6046B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851280" y="6434280"/>
            <a:ext cx="52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Schipper et al (2008) y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Funciones de los principales actor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052640"/>
          <a:ext cx="8750160" cy="2597040"/>
        </p:xfrm>
        <a:graphic>
          <a:graphicData uri="http://schemas.openxmlformats.org/drawingml/2006/table">
            <a:tbl>
              <a:tblPr/>
              <a:tblGrid>
                <a:gridCol w="2881080"/>
                <a:gridCol w="5869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de acto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ncipales funciones y responsabilida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ciones de la sociedad civi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ovechar su experienci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r a reflejar las realidades loc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pilación de información, sensibi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ción de guardiá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os de comunic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sibi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ón a nivel de comunidad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úblico en gener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cimiento a nivel loc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 de las voces de los más pob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179280" y="630864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Schipper et al (2008) y UNDP-UNE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7C54-D3D3-43A2-92AB-AAD11DD5C0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f5494"/>
                </a:solidFill>
                <a:latin typeface="Verdana"/>
              </a:rPr>
              <a:t>Posibles puntos de entrada para la integración medioambiental en la planificación de desarrollo nacional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604360" y="6381720"/>
            <a:ext cx="5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18C6-2992-4B49-B304-12D2050035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0920" y="2565360"/>
          <a:ext cx="8534160" cy="4084560"/>
        </p:xfrm>
        <a:graphic>
          <a:graphicData uri="http://schemas.openxmlformats.org/drawingml/2006/table">
            <a:tbl>
              <a:tblPr/>
              <a:tblGrid>
                <a:gridCol w="2286000"/>
                <a:gridCol w="62481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vel de planificació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ntos de partid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55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bierno nacional y ministerios intersectori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 de reducción de la pobreza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 de desarrollo nacional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 de desarrollo nacional basada en los ODM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o o revisión de la asignación del presupuesto nacional (por ejemplo, un marco de gastso a término medio, una revisión del gasto público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sterios sectori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ategias, planes y políticas del sector (por ejemplo, plan del sector agrícola)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presupuestos del secto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siones del gasto públic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idades sub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íticas de descentralizació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s del Distrito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aración de presupuestos subnac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76" name="TextBox 4"/>
          <p:cNvSpPr/>
          <p:nvPr/>
        </p:nvSpPr>
        <p:spPr>
          <a:xfrm>
            <a:off x="457200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f5494"/>
                </a:solidFill>
                <a:latin typeface="Verdana"/>
              </a:rPr>
              <a:t>Principios para institucionalizar la integración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419720" y="43434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598E-04D9-43F7-90A9-21B3916DBE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565000"/>
            <a:ext cx="853416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rasladar la coordinación a un organismo central con poder de coordinación y de toma de decisiones sobre los ministerios compet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r ejemplo, en el caso del cambio climático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Comisión para desarrollo nacional y la reform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enia: Gabinete del Presiden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or ejemplo, en el caso del medio ambiente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ierra Leona: EPA a cargo del gabinete del presiden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lawi: Comité Directivo de Recursos Natura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3BF8-E6BE-4D07-9779-A102E46B6D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420640"/>
            <a:ext cx="837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/fortalecer mecanismos de coordinación, con una asignación clara de las responsabilidades y con arreglos perman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para el cambio climático, México: Comisión Interministerial sobre el Cambio Climático (CICC) con grupos de trabajo especializad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arse, en la medida de lo posible, en mecanismos de coordinación intersectorial existen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en relación con la seguridad alimentaria, RRD, la gestión sostenible de las tierr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99EB-4EEE-40FC-AF29-5C9835B817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3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cionalizar la flexibilida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compromiso a llevar a cabo revisiones periódicas de políticas/estrategias y nueva evaluación del conocimiento disponib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Institucionalizar la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tigación/adaptación del cambio climático y medio amb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en directrices, procedimientos, sistemas, tamizado ambiental de EAE y EIA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3C97-4069-4EFA-9DC4-70DB537C56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924360" y="655020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fuerzo institucional y de capacidades (4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ar mecanismos de coordinación eficaces a nivel nacional y local, identificando el nivel más adecuado en el que se puede cooperar/coordina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.ej., Ruanda: contratos de desempeño anual en diferentes niveles gubernamentales, con una definición clara de objetivos, indicadores y actividad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talecimiento institucional a nivel subnacional, haciendo coincidir la transferencia de competencias con la transferencia de recurs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F2C-E686-4A9F-B19A-5AC5424AAE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492280"/>
            <a:ext cx="8534160" cy="187344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3000"/>
          </a:bodyPr>
          <a:p>
            <a:pPr marL="318960" indent="-318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¿En qué consiste la integración?  </a:t>
            </a:r>
            <a:br>
              <a:rPr sz="2800"/>
            </a:b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¿Por qué hablamos de integrar el medio ambiente y el cambio climático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7DB0-3252-4637-AEE1-C19BEB0482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1BCA-3B8C-42D9-A891-25FFA44A93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7" name="Picture 4" descr="C:\Documents and Settings\Carlos Soria\My Documents\My Pictures\Alto Huallaga Tingo Maria Monzon Alto Bella julio 23, 2003\IM001873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439560" y="6396120"/>
            <a:ext cx="85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Soria (2005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dades loc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2491920"/>
            <a:ext cx="8534160" cy="208908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Herramientas y acciones para apoyar el fortalecimiento institucional y de capacidad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64A-F9E9-47C3-A0BE-0074B9CBF3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asos para el fortalecimiento institucional y de capacidad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BE1-BC32-4B91-9E41-5374B014F3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ounded Rectangle 12"/>
          <p:cNvSpPr/>
          <p:nvPr/>
        </p:nvSpPr>
        <p:spPr>
          <a:xfrm>
            <a:off x="609480" y="1684440"/>
            <a:ext cx="2519640" cy="10429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Evaluación de necesidad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609480" y="3962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Aprendizaje a través de la práctic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609480" y="2819520"/>
            <a:ext cx="2519640" cy="104436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Mecanismos de trabaj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Rounded Rectangle 15"/>
          <p:cNvSpPr/>
          <p:nvPr/>
        </p:nvSpPr>
        <p:spPr>
          <a:xfrm>
            <a:off x="609480" y="5432400"/>
            <a:ext cx="2519640" cy="1044720"/>
          </a:xfrm>
          <a:prstGeom prst="roundRect">
            <a:avLst>
              <a:gd name="adj" fmla="val 16667"/>
            </a:avLst>
          </a:prstGeom>
          <a:solidFill>
            <a:srgbClr val="bdd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La integración como práctica habitu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ounded Rectangle 16"/>
          <p:cNvSpPr/>
          <p:nvPr/>
        </p:nvSpPr>
        <p:spPr>
          <a:xfrm>
            <a:off x="3576600" y="1684440"/>
            <a:ext cx="2651040" cy="1042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utoevaluación de las capacidades nacion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ounded Rectangle 17"/>
          <p:cNvSpPr/>
          <p:nvPr/>
        </p:nvSpPr>
        <p:spPr>
          <a:xfrm>
            <a:off x="3576600" y="2819520"/>
            <a:ext cx="265104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cuerdos instituciona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Marco de gest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lan de trabaj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ounded Rectangle 18"/>
          <p:cNvSpPr/>
          <p:nvPr/>
        </p:nvSpPr>
        <p:spPr>
          <a:xfrm>
            <a:off x="3576600" y="3962520"/>
            <a:ext cx="2651040" cy="1050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Formación, visitas de intercambio, capacitación en el empleo, experiencia/difus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2" name="Straight Arrow Connector 20"/>
          <p:cNvCxnSpPr>
            <a:stCxn id="209" idx="1"/>
            <a:endCxn id="205" idx="3"/>
          </p:cNvCxnSpPr>
          <p:nvPr/>
        </p:nvCxnSpPr>
        <p:spPr>
          <a:xfrm flipH="1">
            <a:off x="3128400" y="220464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3" name="Straight Arrow Connector 21"/>
          <p:cNvCxnSpPr>
            <a:stCxn id="210" idx="1"/>
            <a:endCxn id="207" idx="3"/>
          </p:cNvCxnSpPr>
          <p:nvPr/>
        </p:nvCxnSpPr>
        <p:spPr>
          <a:xfrm flipH="1">
            <a:off x="3128400" y="3341160"/>
            <a:ext cx="448200" cy="108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4" name="Straight Arrow Connector 22"/>
          <p:cNvCxnSpPr>
            <a:stCxn id="211" idx="1"/>
            <a:endCxn id="206" idx="3"/>
          </p:cNvCxnSpPr>
          <p:nvPr/>
        </p:nvCxnSpPr>
        <p:spPr>
          <a:xfrm flipH="1" flipV="1">
            <a:off x="3128400" y="4483800"/>
            <a:ext cx="448200" cy="396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  <p:cxnSp>
        <p:nvCxnSpPr>
          <p:cNvPr id="215" name="Straight Arrow Connector 27"/>
          <p:cNvCxnSpPr>
            <a:stCxn id="206" idx="2"/>
            <a:endCxn id="208" idx="0"/>
          </p:cNvCxnSpPr>
          <p:nvPr/>
        </p:nvCxnSpPr>
        <p:spPr>
          <a:xfrm flipH="1">
            <a:off x="1867680" y="5006880"/>
            <a:ext cx="2520" cy="4276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6" name="Elbow Connector 31"/>
          <p:cNvCxnSpPr>
            <a:stCxn id="208" idx="1"/>
            <a:endCxn id="205" idx="1"/>
          </p:cNvCxnSpPr>
          <p:nvPr/>
        </p:nvCxnSpPr>
        <p:spPr>
          <a:xfrm rot="10800000">
            <a:off x="608760" y="2204280"/>
            <a:ext cx="2520" cy="3750480"/>
          </a:xfrm>
          <a:prstGeom prst="bentConnector3">
            <a:avLst>
              <a:gd name="adj1" fmla="val 14383333"/>
            </a:avLst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217" name="Straight Connector 33"/>
          <p:cNvSpPr/>
          <p:nvPr/>
        </p:nvSpPr>
        <p:spPr>
          <a:xfrm>
            <a:off x="1870200" y="2727360"/>
            <a:ext cx="0" cy="9216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traight Connector 35"/>
          <p:cNvSpPr/>
          <p:nvPr/>
        </p:nvSpPr>
        <p:spPr>
          <a:xfrm>
            <a:off x="1870200" y="3863880"/>
            <a:ext cx="0" cy="98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Rounded Rectangle 19"/>
          <p:cNvSpPr/>
          <p:nvPr/>
        </p:nvSpPr>
        <p:spPr>
          <a:xfrm>
            <a:off x="6588000" y="1687680"/>
            <a:ext cx="2016360" cy="1044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Análisis de los actor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20" name="Straight Arrow Connector 23"/>
          <p:cNvCxnSpPr>
            <a:stCxn id="219" idx="1"/>
          </p:cNvCxnSpPr>
          <p:nvPr/>
        </p:nvCxnSpPr>
        <p:spPr>
          <a:xfrm flipH="1" flipV="1">
            <a:off x="6165000" y="2204280"/>
            <a:ext cx="423000" cy="5400"/>
          </a:xfrm>
          <a:prstGeom prst="straightConnector1">
            <a:avLst/>
          </a:prstGeom>
          <a:ln w="28440">
            <a:solidFill>
              <a:srgbClr val="0f549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valuación de necesidades: ¿A quién va dirigido el desarrollo de capacidades? ¿Con qué objetivo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491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Desarrollo de Capacidades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DC) debería producirse a tres niveles complementario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de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torno propicio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ivel de sistema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(nivel institucional glob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de organiz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nivel individu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E5F-1EAD-4354-A3CC-38CB269829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Cloud Callout 4"/>
          <p:cNvSpPr/>
          <p:nvPr/>
        </p:nvSpPr>
        <p:spPr>
          <a:xfrm>
            <a:off x="3924360" y="4076640"/>
            <a:ext cx="4876920" cy="1874880"/>
          </a:xfrm>
          <a:prstGeom prst="cloudCallout">
            <a:avLst>
              <a:gd name="adj1" fmla="val -29435"/>
              <a:gd name="adj2" fmla="val -75777"/>
            </a:avLst>
          </a:prstGeom>
          <a:solidFill>
            <a:srgbClr val="0f5494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omenzar determinando: 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¿Qué objetivo tiene el desarrollo de capacidades?</a:t>
            </a:r>
            <a:r>
              <a:rPr b="1" lang="ja-JP" sz="1600" spc="-1" strike="noStrike">
                <a:solidFill>
                  <a:srgbClr val="92d050"/>
                </a:solidFill>
                <a:latin typeface="Verdana"/>
              </a:rPr>
              <a:t>’</a:t>
            </a:r>
            <a:r>
              <a:rPr b="1" lang="en-GB" sz="1600" spc="-1" strike="noStrike">
                <a:solidFill>
                  <a:srgbClr val="92d05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-&gt; Definir objetivos específico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886200" y="6477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DP (2011)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Evaluación de necesidades: necesidades de DC de los actores para la integració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708360" y="3243240"/>
            <a:ext cx="180036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Desarrollo de capacidades de los actor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Rounded Rectangular Callout 5"/>
          <p:cNvSpPr/>
          <p:nvPr/>
        </p:nvSpPr>
        <p:spPr>
          <a:xfrm>
            <a:off x="471600" y="1752480"/>
            <a:ext cx="1600200" cy="1371600"/>
          </a:xfrm>
          <a:prstGeom prst="wedgeRoundRectCallout">
            <a:avLst>
              <a:gd name="adj1" fmla="val 153768"/>
              <a:gd name="adj2" fmla="val 7561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en relación con sistemas de información y análisi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Rounded Rectangular Callout 6"/>
          <p:cNvSpPr/>
          <p:nvPr/>
        </p:nvSpPr>
        <p:spPr>
          <a:xfrm>
            <a:off x="3290760" y="1447920"/>
            <a:ext cx="1752840" cy="990360"/>
          </a:xfrm>
          <a:prstGeom prst="wedgeRoundRectCallout">
            <a:avLst>
              <a:gd name="adj1" fmla="val 22060"/>
              <a:gd name="adj2" fmla="val 131856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para fijar prioridades y planifica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Rounded Rectangular Callout 7"/>
          <p:cNvSpPr/>
          <p:nvPr/>
        </p:nvSpPr>
        <p:spPr>
          <a:xfrm>
            <a:off x="6567480" y="2209680"/>
            <a:ext cx="2181240" cy="1371600"/>
          </a:xfrm>
          <a:prstGeom prst="wedgeRoundRectCallout">
            <a:avLst>
              <a:gd name="adj1" fmla="val -101791"/>
              <a:gd name="adj2" fmla="val 3991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de participación y empoderamient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ounded Rectangular Callout 8"/>
          <p:cNvSpPr/>
          <p:nvPr/>
        </p:nvSpPr>
        <p:spPr>
          <a:xfrm>
            <a:off x="395280" y="3962520"/>
            <a:ext cx="2133720" cy="1066680"/>
          </a:xfrm>
          <a:prstGeom prst="wedgeRoundRectCallout">
            <a:avLst>
              <a:gd name="adj1" fmla="val 107791"/>
              <a:gd name="adj2" fmla="val -63949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políticas y de comunicació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Rounded Rectangular Callout 9"/>
          <p:cNvSpPr/>
          <p:nvPr/>
        </p:nvSpPr>
        <p:spPr>
          <a:xfrm>
            <a:off x="2987640" y="5589720"/>
            <a:ext cx="1905120" cy="1066680"/>
          </a:xfrm>
          <a:prstGeom prst="wedgeRoundRectCallout">
            <a:avLst>
              <a:gd name="adj1" fmla="val 19240"/>
              <a:gd name="adj2" fmla="val -138282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de monitoreo, evaluación y aprendizaj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Rounded Rectangular Callout 10"/>
          <p:cNvSpPr/>
          <p:nvPr/>
        </p:nvSpPr>
        <p:spPr>
          <a:xfrm>
            <a:off x="6705720" y="4267080"/>
            <a:ext cx="1828800" cy="990720"/>
          </a:xfrm>
          <a:prstGeom prst="wedgeRoundRectCallout">
            <a:avLst>
              <a:gd name="adj1" fmla="val -116518"/>
              <a:gd name="adj2" fmla="val -97810"/>
              <a:gd name="adj3" fmla="val 16667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pacidades técnicas específic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C22-CEAA-4442-A866-291424B329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484520" y="657684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Dalal-Clayton &amp; Bass 2009: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Cloud Callout 12"/>
          <p:cNvSpPr/>
          <p:nvPr/>
        </p:nvSpPr>
        <p:spPr>
          <a:xfrm>
            <a:off x="179280" y="5410080"/>
            <a:ext cx="2664000" cy="1067040"/>
          </a:xfrm>
          <a:prstGeom prst="cloudCallout">
            <a:avLst>
              <a:gd name="adj1" fmla="val 56912"/>
              <a:gd name="adj2" fmla="val -11040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APACIDADES FUNCIONALES</a:t>
            </a:r>
            <a:r>
              <a:rPr b="1" lang="ja-JP" sz="1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Cloud Callout 13"/>
          <p:cNvSpPr/>
          <p:nvPr/>
        </p:nvSpPr>
        <p:spPr>
          <a:xfrm>
            <a:off x="5219640" y="5410080"/>
            <a:ext cx="2952720" cy="1067040"/>
          </a:xfrm>
          <a:prstGeom prst="cloudCallout">
            <a:avLst>
              <a:gd name="adj1" fmla="val 11166"/>
              <a:gd name="adj2" fmla="val -91194"/>
            </a:avLst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APACIDADES TÉCNICAS'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0240"/>
            <a:ext cx="9144000" cy="13716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valuación de necesidades: autoevaluaciones nacionales de capacidad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341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A partir de evaluaciones institucionales existentes o 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ad hoc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, tener en cuenta para las organizaciones 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Nivel de educación/sensibilización sobre m.a. y c.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Los poderes y funciones de las organizaciones en relación con las cuestiones relativas al medio ambiente y cambio climátic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Influencia de riesgos climáticos sobre la capacidad de funcionamien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Sistemas de información y capacidades técnicas, financieras, jurídicas/reglamentarias en relación con el m.a. y el c.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Mecanismos de planificación, toma de decisiones, asignación de presupuestos y program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structuras y mecanismos de colaboración y coordin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valuaciones en relación con el medio ambiente y el cambio climát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50920" y="65502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EP-UND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B855-249B-47F3-BD37-C08DDBD6A6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339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stablecimiento de mecanismos de trabajo para una iniciativa de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249228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finir disposiciones institucionales (políticas y técnicas) (p.ej., comités directivos y técnic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stablecer un marco de gest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de lideraz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ursos human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financier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posiciones de evaluación y monitore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Desarrollar un plan de trabajo operat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3CBA-0C4F-45BE-B49C-921F030DE4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003640" y="655020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rendizaje a través de la práctica: varios </a:t>
            </a: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enfoqu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0640"/>
            <a:ext cx="85694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rmación formal en integración y aspectos técnicos específic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Visitas de intercamb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prendizaje in situ a través de programas nacionales de integración, que incluyen: 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quipos interdisciplinari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ermanamiento entre organizaciones (twinning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stencia técnic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yectos de demostració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prendizade de experiencias y difus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D28-2B23-4DA5-8EEC-2E23D8ECE0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9528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uente: UNEP-UNDP (2009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2c0"/>
                </a:solidFill>
                <a:latin typeface="Verdana"/>
              </a:rPr>
              <a:t>Recapitulación - Mensajes cla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y motivos importantes para integrar el medio ambiente y el cambio climático en todos los planes de desarroll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isten puntos de entrada para integrar el medio ambiente y el cambio climático en todas las etapas del ciclo de política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l fortalecimientos institucional y de capacidades (basado en un buen diagnóstico de los puntos fuertes/débiles de las estructuras existentes y los esfuerzos para mejorar la gobernanza) es una condición clave para que la integración se produzca de forma satisfactor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a evaluación de las necesidades, el establecimiento de mecanismos de trabajo eficaces y el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rendizaje a través de la práctica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puede servir de apoyo al proceso de integració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0CC-C03F-4ACD-A135-B5C9068C43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ibliografía clav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(2011) Practitioner</a:t>
            </a:r>
            <a:r>
              <a:rPr b="0" lang="ja-JP" sz="22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s Guide: Capacity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Development for Environmental Sustainability. United Nations Development Programme, New York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09) Mainstreaming Poverty-Environment Linkages into Development Planning: A Handbook for Practitioners. UNDP-UNEP Poverty-Environment Initiative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UNDP – Integrating environment into development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undp.org/mainstreaming/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2DF-F3E4-44D4-B3BC-C5165768F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ás allá del concepto de 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edio ambiente</a:t>
            </a:r>
            <a:r>
              <a:rPr b="1" lang="ja-JP" sz="3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como sector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2397240"/>
            <a:ext cx="838188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medio ambiente y la protección de los RRNN constituyen un sector, aunque su sostenibilidad también depende de las políticas de otros secto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desempeño de otros sectores depende en gran medida del estado del medio ambien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No basta con abordar el medio ambiente como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desarrollo de otros sectores deben tener en cuenta la sostenibilidad ambient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medio ambiente como sector suele tener una financiación insuficien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6CF-48D5-47BE-B519-CB8EAC35CA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ibliografí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851120"/>
            <a:ext cx="86407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alal-Clayton B. &amp; Bass S. (2009) The challenges of environmental mainstreaming: experience of integrating environment into development institutions and decisions. International Institute for Environment and Development, London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environmental-mainstreaming.org/key-lit.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chipper E.L., Paz Cigarán M. &amp; McKenzie Hedger M. (2008) Adaptation to Climate Change: The new challenge for development in the developing world. Environment &amp; Energy Group, United Nations Development Programme, New York. Disponible en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undp.org/climatechange/docs/English/UNDP_Adaptation_final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oria, C (2005) SEA and the NGO community in Latin America. Presentación realizada en la conferencia de SEA e IDC, Halong Bay, Vietnam, 24-28 de enero de 2005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6FE-BDED-4132-B2A1-4D9CC9A6FE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¿En qué consiste la integración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844640"/>
            <a:ext cx="84582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Definición de </a:t>
            </a: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integración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: el curso, la corriente, la tendencia o la manera de pensar predominante o mayoritaria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Integración</a:t>
            </a:r>
            <a:r>
              <a:rPr b="0" lang="es-ES" sz="2400" spc="-1" strike="noStrike">
                <a:solidFill>
                  <a:srgbClr val="00206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La incorporación fundamentada de un valor, tema o asunto relevante en las decisiones de instituciones que fomentan políticas, normas, planes, inversiones y acciones de desarrollo nacional, local y sectorial 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(adaptado de Dalal-Clayton &amp; Bass 2009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92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2c0"/>
                </a:solidFill>
                <a:latin typeface="Verdana"/>
              </a:rPr>
              <a:t>El cambio y la consolidación de instituciones, así como el desarrollo de capacidades 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conforman la base de cualquier esfuerzo de integrac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E86-04FD-4212-BB84-A487B26C66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tivos de la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2050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La integración es un proceso a largo plazo, iterativo, que tiene el objetivo d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transformar ide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y lo que es más importante, transformar políticas, asignación de recursos y práctic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para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promover los resultados de desarrollo deseados (con respecto al género, al medio ambiente, al cambio climático, a la gobernanza, a los derechos humanos, etc.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y apoyar soluciones integradas para los problemas humano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2C7-87E9-4988-AFE4-ECC0B4B524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arco político para la integració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1916280"/>
            <a:ext cx="8497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l Consenso Europeo sobre Desarrollo (2005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reconoce de forma explícita los vínculos entre el desarrollo y el medio ambiente y destaca la necesidad de poner en práctica un </a:t>
            </a:r>
            <a:r>
              <a:rPr b="0" i="1" lang="es-ES" sz="2000" spc="-1" strike="noStrike">
                <a:solidFill>
                  <a:srgbClr val="0f5494"/>
                </a:solidFill>
                <a:latin typeface="Verdana"/>
              </a:rPr>
              <a:t>“un planteamiento de atención transversal…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Programa para el Cambio (2011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el desarrollo no es sostenible si deteriora el medio ambiente, la biodiversidad y los recursos naturales y aumenta la exposición y vulnerabilidad a las catástrofes naturales”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Estrategia de la UE sobre la biodiversidad para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Invita a una cooperación de desarrollo de la CE compatible con la biodiversida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491920"/>
            <a:ext cx="8534160" cy="167652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Un marco para integrar el medio ambiente y el cambio climátic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59E-801E-4A55-B0E9-564A281DC5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untos de partida para la integración en el ciclo de polític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371-B704-4DD5-B50C-E57009843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3" descr="_Pic3"/>
          <p:cNvPicPr/>
          <p:nvPr/>
        </p:nvPicPr>
        <p:blipFill>
          <a:blip r:embed="rId1"/>
          <a:stretch/>
        </p:blipFill>
        <p:spPr>
          <a:xfrm>
            <a:off x="1328760" y="1554120"/>
            <a:ext cx="5913360" cy="47134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718080" y="3414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lanificación nacional de desarroll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56000" y="242100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stablecer la agenda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470560" y="3381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seño de política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184560" y="5019840"/>
            <a:ext cx="217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mplementar y monitorear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Rounded Rectangular Callout 11"/>
          <p:cNvSpPr/>
          <p:nvPr/>
        </p:nvSpPr>
        <p:spPr>
          <a:xfrm>
            <a:off x="108000" y="1484280"/>
            <a:ext cx="2376360" cy="1297080"/>
          </a:xfrm>
          <a:prstGeom prst="wedgeRoundRectCallout">
            <a:avLst>
              <a:gd name="adj1" fmla="val 77625"/>
              <a:gd name="adj2" fmla="val 54203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eterminar los puntos de acceso y argumentación de apoy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ounded Rectangular Callout 12"/>
          <p:cNvSpPr/>
          <p:nvPr/>
        </p:nvSpPr>
        <p:spPr>
          <a:xfrm>
            <a:off x="6372360" y="1628640"/>
            <a:ext cx="2336760" cy="1513080"/>
          </a:xfrm>
          <a:prstGeom prst="wedgeRoundRectCallout">
            <a:avLst>
              <a:gd name="adj1" fmla="val -46481"/>
              <a:gd name="adj2" fmla="val 84250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Integración en los procesos de definición de políticas y planific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ounded Rectangular Callout 13"/>
          <p:cNvSpPr/>
          <p:nvPr/>
        </p:nvSpPr>
        <p:spPr>
          <a:xfrm>
            <a:off x="250920" y="5257800"/>
            <a:ext cx="2187360" cy="990720"/>
          </a:xfrm>
          <a:prstGeom prst="wedgeRoundRectCallout">
            <a:avLst>
              <a:gd name="adj1" fmla="val 90509"/>
              <a:gd name="adj2" fmla="val -33495"/>
              <a:gd name="adj3" fmla="val 16667"/>
            </a:avLst>
          </a:prstGeom>
          <a:solidFill>
            <a:srgbClr val="0f54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nfrentar el desafío de la implemen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050920" y="6308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ado de: UNDP-UNEP (2009) Figura 3.2, p. 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ounded Rectangle 3"/>
          <p:cNvSpPr/>
          <p:nvPr/>
        </p:nvSpPr>
        <p:spPr>
          <a:xfrm>
            <a:off x="611280" y="7632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terminar los puntos de acceso y argumentación de apoy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3429000" y="76320"/>
            <a:ext cx="2666880" cy="97632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Integrar los vínculos entre pobreza y medio ambiente en los procesos nacionales de desarroll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ounded Rectangle 5"/>
          <p:cNvSpPr/>
          <p:nvPr/>
        </p:nvSpPr>
        <p:spPr>
          <a:xfrm>
            <a:off x="6400800" y="76320"/>
            <a:ext cx="2519280" cy="86364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Enfrentar el desafío de la implementació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Rounded Rectangle 6"/>
          <p:cNvSpPr/>
          <p:nvPr/>
        </p:nvSpPr>
        <p:spPr>
          <a:xfrm>
            <a:off x="581040" y="1066680"/>
            <a:ext cx="2663640" cy="2514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Evaluaciones prelimina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os retos y la ciencia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as relaciones entre pobreza-medio ambiente y cambio climático-desarroll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os marcos gubernamentales, institucionales y polític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ounded Rectangle 7"/>
          <p:cNvSpPr/>
          <p:nvPr/>
        </p:nvSpPr>
        <p:spPr>
          <a:xfrm>
            <a:off x="609480" y="3657600"/>
            <a:ext cx="2667240" cy="14270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Crear conciencia y construir alianz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Consenso nacional y compromiso para un desarrollo resiliente y bajo en emisiones de carbon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Rounded Rectangle 8"/>
          <p:cNvSpPr/>
          <p:nvPr/>
        </p:nvSpPr>
        <p:spPr>
          <a:xfrm>
            <a:off x="612720" y="5175360"/>
            <a:ext cx="26640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Refuerzo institucional y de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valuación de neces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Mecanismos de trabaj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ounded Rectangle 9"/>
          <p:cNvSpPr/>
          <p:nvPr/>
        </p:nvSpPr>
        <p:spPr>
          <a:xfrm>
            <a:off x="3429000" y="1066680"/>
            <a:ext cx="2743200" cy="27432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Recopilar evidencia específica del país e influir en los procesos polític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valuación integrada de ecosistemas; análisis económico, etc.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Integración en políticas sectoriales y (sub)nacionales, estrategias, program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Entender las incertidumbr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ounded Rectangle 10"/>
          <p:cNvSpPr/>
          <p:nvPr/>
        </p:nvSpPr>
        <p:spPr>
          <a:xfrm>
            <a:off x="3429000" y="39625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Desarrollar y costear medidas para diseñar polític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Rounded Rectangle 11"/>
          <p:cNvSpPr/>
          <p:nvPr/>
        </p:nvSpPr>
        <p:spPr>
          <a:xfrm>
            <a:off x="3429000" y="517536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Fortalecer las instituciones y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Aprendizaje a través de la práctica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ounded Rectangle 12"/>
          <p:cNvSpPr/>
          <p:nvPr/>
        </p:nvSpPr>
        <p:spPr>
          <a:xfrm>
            <a:off x="6396120" y="1066680"/>
            <a:ext cx="2519280" cy="1219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Presupuestos y financiació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Integración en el proceso presupuestari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Rounded Rectangle 13"/>
          <p:cNvSpPr/>
          <p:nvPr/>
        </p:nvSpPr>
        <p:spPr>
          <a:xfrm>
            <a:off x="6400800" y="2352600"/>
            <a:ext cx="2519280" cy="1533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Integración en el sistema de monitore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Marcos de evaluación de rendimient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Recopilación de indicadores y dato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ounded Rectangle 14"/>
          <p:cNvSpPr/>
          <p:nvPr/>
        </p:nvSpPr>
        <p:spPr>
          <a:xfrm>
            <a:off x="6396120" y="4011480"/>
            <a:ext cx="2519280" cy="107316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Apoyo en las medidas para diseño de polñitica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A nivel nacional, sectorial y subnacional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ounded Rectangle 15"/>
          <p:cNvSpPr/>
          <p:nvPr/>
        </p:nvSpPr>
        <p:spPr>
          <a:xfrm>
            <a:off x="6396120" y="5175360"/>
            <a:ext cx="2519280" cy="990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Fortalecer instituciones y capacidades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La integración </a:t>
            </a:r>
            <a:br>
              <a:rPr sz="1500"/>
            </a:br>
            <a:r>
              <a:rPr b="0" lang="en-GB" sz="1500" spc="-1" strike="noStrike">
                <a:solidFill>
                  <a:srgbClr val="002060"/>
                </a:solidFill>
                <a:latin typeface="Calibri"/>
              </a:rPr>
              <a:t>como práctica estándar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ounded Rectangle 16"/>
          <p:cNvSpPr/>
          <p:nvPr/>
        </p:nvSpPr>
        <p:spPr>
          <a:xfrm>
            <a:off x="1332000" y="6165720"/>
            <a:ext cx="6769080" cy="432000"/>
          </a:xfrm>
          <a:prstGeom prst="roundRect">
            <a:avLst>
              <a:gd name="adj" fmla="val 16667"/>
            </a:avLst>
          </a:prstGeom>
          <a:solidFill>
            <a:srgbClr val="f8fbfc"/>
          </a:solidFill>
          <a:ln w="25560">
            <a:solidFill>
              <a:srgbClr val="0f549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060"/>
                </a:solidFill>
                <a:latin typeface="Calibri"/>
              </a:rPr>
              <a:t>Implicación de actores y coordinación dentro de la comunidad de desarrollo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Flowchart: Document 17"/>
          <p:cNvSpPr/>
          <p:nvPr/>
        </p:nvSpPr>
        <p:spPr>
          <a:xfrm>
            <a:off x="76320" y="1371600"/>
            <a:ext cx="823680" cy="3286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owchart: Document 18"/>
          <p:cNvSpPr/>
          <p:nvPr/>
        </p:nvSpPr>
        <p:spPr>
          <a:xfrm>
            <a:off x="2916360" y="3213000"/>
            <a:ext cx="807840" cy="3430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owchart: Document 19"/>
          <p:cNvSpPr/>
          <p:nvPr/>
        </p:nvSpPr>
        <p:spPr>
          <a:xfrm>
            <a:off x="108000" y="3962520"/>
            <a:ext cx="792000" cy="3301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Flowchart: Document 20"/>
          <p:cNvSpPr/>
          <p:nvPr/>
        </p:nvSpPr>
        <p:spPr>
          <a:xfrm>
            <a:off x="115920" y="5334120"/>
            <a:ext cx="855720" cy="326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lowchart: Document 22"/>
          <p:cNvSpPr/>
          <p:nvPr/>
        </p:nvSpPr>
        <p:spPr>
          <a:xfrm>
            <a:off x="2987640" y="2708280"/>
            <a:ext cx="871560" cy="299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Flowchart: Document 23"/>
          <p:cNvSpPr/>
          <p:nvPr/>
        </p:nvSpPr>
        <p:spPr>
          <a:xfrm>
            <a:off x="3276720" y="3916440"/>
            <a:ext cx="790560" cy="3045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7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traight Connector 25"/>
          <p:cNvSpPr/>
          <p:nvPr/>
        </p:nvSpPr>
        <p:spPr>
          <a:xfrm>
            <a:off x="3276720" y="5670720"/>
            <a:ext cx="15228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traight Connector 29"/>
          <p:cNvSpPr/>
          <p:nvPr/>
        </p:nvSpPr>
        <p:spPr>
          <a:xfrm>
            <a:off x="6172200" y="5670720"/>
            <a:ext cx="223920" cy="0"/>
          </a:xfrm>
          <a:prstGeom prst="line">
            <a:avLst/>
          </a:prstGeom>
          <a:ln w="2844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Flowchart: Document 32"/>
          <p:cNvSpPr/>
          <p:nvPr/>
        </p:nvSpPr>
        <p:spPr>
          <a:xfrm>
            <a:off x="6084720" y="1773360"/>
            <a:ext cx="785880" cy="35532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8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Flowchart: Document 33"/>
          <p:cNvSpPr/>
          <p:nvPr/>
        </p:nvSpPr>
        <p:spPr>
          <a:xfrm>
            <a:off x="5724360" y="2421000"/>
            <a:ext cx="787680" cy="31284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9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76320" y="6581880"/>
            <a:ext cx="85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daptado de: UNDP-UNEP (2009) Figura 3.1, p. 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Flowchart: Document 27"/>
          <p:cNvSpPr/>
          <p:nvPr/>
        </p:nvSpPr>
        <p:spPr>
          <a:xfrm>
            <a:off x="76320" y="1905120"/>
            <a:ext cx="823680" cy="2998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lowchart: Document 30"/>
          <p:cNvSpPr/>
          <p:nvPr/>
        </p:nvSpPr>
        <p:spPr>
          <a:xfrm>
            <a:off x="3203640" y="5300640"/>
            <a:ext cx="798480" cy="3160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lowchart: Document 31"/>
          <p:cNvSpPr/>
          <p:nvPr/>
        </p:nvSpPr>
        <p:spPr>
          <a:xfrm>
            <a:off x="6156360" y="5445000"/>
            <a:ext cx="787320" cy="3574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lowchart: Document 31"/>
          <p:cNvSpPr/>
          <p:nvPr/>
        </p:nvSpPr>
        <p:spPr>
          <a:xfrm>
            <a:off x="120600" y="2590920"/>
            <a:ext cx="779400" cy="33336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lowchart: Document 19"/>
          <p:cNvSpPr/>
          <p:nvPr/>
        </p:nvSpPr>
        <p:spPr>
          <a:xfrm>
            <a:off x="3200400" y="2133720"/>
            <a:ext cx="795240" cy="287280"/>
          </a:xfrm>
          <a:prstGeom prst="flowChartDocument">
            <a:avLst/>
          </a:prstGeom>
          <a:solidFill>
            <a:srgbClr val="92d050"/>
          </a:solidFill>
          <a:ln w="255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Mód. 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6-15T09:05:40Z</dcterms:modified>
  <cp:revision>136</cp:revision>
  <dc:subject/>
  <dc:title>Slide 1</dc:title>
</cp:coreProperties>
</file>